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043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0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68560" y="677520"/>
            <a:ext cx="4520880" cy="339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914400" y="4295880"/>
            <a:ext cx="502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C500-2EBF-4AA6-89E7-AEA051844F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5896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589600"/>
            <a:ext cx="2971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C2FC-6C5E-4E76-8E06-699D8ED7C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1"/>
          <p:cNvSpPr/>
          <p:nvPr/>
        </p:nvSpPr>
        <p:spPr>
          <a:xfrm>
            <a:off x="3886200" y="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EAE0-4A46-4327-AC26-F798BEDA9E92}" type="datetime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07/28/26</a:t>
            </a:fld>
            <a:endParaRPr b="0" lang="en-US" sz="1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3886200" y="8589960"/>
            <a:ext cx="297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98E2-68FA-4DEA-95DF-940B66F830FA}" type="slidenum"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77880"/>
            <a:ext cx="4520880" cy="3390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295880"/>
            <a:ext cx="50292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351D-F495-4127-9C41-7494554D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253D-1C59-4C1E-B54B-10C81D88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FF8-6EF4-472D-B298-1311164B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04F-8D39-4F48-B325-22C882EF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EF3A-07C7-4102-9389-76C45099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0700-A7EE-44F9-8720-972CAD4F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C8C7-EEC1-4518-BD6B-D74C6021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0B15-1558-4A33-8A57-24740F7C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C5A1-24AD-4420-BEF9-D20372EA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511B-3E73-4417-B862-802D9FCB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9F09-6C2F-4E86-9AB6-DD90B3DD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E616-2CCA-49A6-B060-27AFF05D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5D77-0D8D-437A-A6D6-EEA37785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7965-35E8-4284-9F86-7EFB00C2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BB76-8D9D-4EA4-9452-E0DFBFAD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7477-2EEF-4971-A504-F3F98ED8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4FF9-2C53-4343-9933-ED4E57F4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4BA-FBA6-46D5-92CD-4CF0EB44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67A-98FF-4340-8C4B-4E1A31A9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CA8-0FFA-4AEC-842E-78BFAF70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2D2A-3384-486E-9849-63F8A6EC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3984-44D9-4F25-AF57-F716F06D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6D7C-F003-4507-9E24-68D17560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B55B-90DD-4903-A6AC-D9D459F4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C4FC-4AB6-492A-85D3-5B60071F71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rc 3"/>
          <p:cNvSpPr/>
          <p:nvPr/>
        </p:nvSpPr>
        <p:spPr>
          <a:xfrm>
            <a:off x="0" y="843120"/>
            <a:ext cx="2895480" cy="60181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5DEC-46B8-42A8-8424-12C0B6476C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1219320" y="1295280"/>
            <a:ext cx="7010280" cy="3904560"/>
          </a:xfrm>
          <a:prstGeom prst="rect">
            <a:avLst/>
          </a:prstGeom>
          <a:solidFill>
            <a:srgbClr val="cecffa"/>
          </a:solidFill>
          <a:ln w="38160">
            <a:solidFill>
              <a:srgbClr val="0f12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Times New Roman"/>
              </a:rPr>
              <a:t>The Quality of Life Index (QLI)</a:t>
            </a:r>
            <a:endParaRPr b="0" lang="en-US" sz="6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</a:rPr>
              <a:t>Social Watch Philippines Monitoring Initiatives</a:t>
            </a: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838080" y="457200"/>
            <a:ext cx="7391520" cy="861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Quality of Life Index (QLI)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Wingdings"/>
                <a:ea typeface="Wingdings"/>
              </a:rPr>
              <a:t>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asic Capabilities Index (BCI)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38080" y="1828800"/>
            <a:ext cx="7315200" cy="4343400"/>
          </a:xfrm>
          <a:prstGeom prst="rect">
            <a:avLst/>
          </a:prstGeom>
          <a:solidFill>
            <a:srgbClr val="ccecff"/>
          </a:solidFill>
          <a:ln w="414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82"/>
                </a:solidFill>
                <a:latin typeface="Times New Roman"/>
                <a:ea typeface="Times New Roman"/>
              </a:rPr>
              <a:t>QLI was adopted by Social Watch International with a slight modification of the Component Indicator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1) </a:t>
            </a:r>
            <a:r>
              <a:rPr b="1" lang="en-US" sz="2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Under-five child mortality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2) 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Births attended by trained health personnel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  <a:ea typeface="Times New Roman"/>
              </a:rPr>
              <a:t>3)  </a:t>
            </a:r>
            <a:r>
              <a:rPr b="1" lang="en-US" sz="2000" spc="-1" strike="noStrike">
                <a:solidFill>
                  <a:srgbClr val="db2507"/>
                </a:solidFill>
                <a:latin typeface="Verdana"/>
                <a:ea typeface="Times New Roman"/>
              </a:rPr>
              <a:t>Elementary Cohort Survival Rate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b82"/>
                </a:solidFill>
                <a:latin typeface="Verdana"/>
                <a:ea typeface="Times New Roman"/>
              </a:rPr>
              <a:t>Applied Globally and found to be applicable for significant number of countries and highly correlated to HDI, Food Security, overall Health and Educational Attainment.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6699"/>
                </a:solidFill>
                <a:uFillTx/>
                <a:latin typeface="Verdana"/>
                <a:ea typeface="Times New Roman"/>
              </a:rPr>
              <a:t>  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&lt; 5 mortality ra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asures the proportion of severely &amp; moderately underweight children  &lt; 5 years ol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ollows the WHO weight-for-age standard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rrelated  to infant mortality, immunization coverage, access to safe water &amp; sanitary faciliti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IFE EXPENCTANCY &amp; HEALTH SERVIC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pability to be well-nourishe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ttended Birth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liveries attended by trained health professionals – doctors, nurses and midwiv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enerated  by the Field health Service Information system of the DO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apability for healthy reproduc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lementary CS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asures the proportion of enrollees in Grade 1 who reached Grade 6 after 6 years of school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mpiled by schools, municipalities, schools divis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trong correlation with participation rate, functional literacy, achievement tests rat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DUCATION PERFORMANC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APABILITY TO BE EDUCATED &amp; BE KNOWLEDGEABL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Human Devt Index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fe expectancy at birt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dult literac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GDP per capit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QLI, Income &amp; HDI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LI is strongly associated with incom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QLI measures well-being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urely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in terms of capabilit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DI combines income and basic capabiliti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745"/>
          <p:cNvSpPr/>
          <p:nvPr/>
        </p:nvSpPr>
        <p:spPr>
          <a:xfrm>
            <a:off x="1447920" y="380880"/>
            <a:ext cx="48765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Provincial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Top 15 Provinces</a:t>
            </a:r>
            <a:endParaRPr b="0" lang="en-US" sz="1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47920" y="1447920"/>
          <a:ext cx="662940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47920"/>
                    <a:ext cx="66294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06"/>
          <p:cNvSpPr/>
          <p:nvPr/>
        </p:nvSpPr>
        <p:spPr>
          <a:xfrm>
            <a:off x="1447920" y="380880"/>
            <a:ext cx="48765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99"/>
                </a:solidFill>
                <a:uFillTx/>
                <a:latin typeface="Times New Roman"/>
              </a:rPr>
              <a:t>Provincial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9999"/>
                </a:solidFill>
                <a:uFillTx/>
                <a:latin typeface="Times New Roman"/>
              </a:rPr>
              <a:t>Bottom 15 Provinces</a:t>
            </a:r>
            <a:endParaRPr b="0" lang="en-US" sz="1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09480" y="1447920"/>
          <a:ext cx="7772400" cy="516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772400" cy="51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rcRect l="1808" t="1162" r="1808" b="1162"/>
          <a:stretch/>
        </p:blipFill>
        <p:spPr>
          <a:xfrm>
            <a:off x="4313160" y="0"/>
            <a:ext cx="4830840" cy="66294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40384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hilippines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145" name="Group 5"/>
          <p:cNvGrpSpPr/>
          <p:nvPr/>
        </p:nvGrpSpPr>
        <p:grpSpPr>
          <a:xfrm>
            <a:off x="1193760" y="4114800"/>
            <a:ext cx="3378240" cy="2000160"/>
            <a:chOff x="1193760" y="4114800"/>
            <a:chExt cx="3378240" cy="2000160"/>
          </a:xfrm>
        </p:grpSpPr>
        <p:sp>
          <p:nvSpPr>
            <p:cNvPr id="146" name="Rectangle 6"/>
            <p:cNvSpPr/>
            <p:nvPr/>
          </p:nvSpPr>
          <p:spPr>
            <a:xfrm>
              <a:off x="1216440" y="4209840"/>
              <a:ext cx="638640" cy="152640"/>
            </a:xfrm>
            <a:prstGeom prst="rect">
              <a:avLst/>
            </a:prstGeom>
            <a:solidFill>
              <a:srgbClr val="fd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1193760" y="4572000"/>
              <a:ext cx="639000" cy="171360"/>
            </a:xfrm>
            <a:prstGeom prst="rect">
              <a:avLst/>
            </a:prstGeom>
            <a:solidFill>
              <a:srgbClr val="fec8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1193760" y="5029200"/>
              <a:ext cx="639000" cy="171360"/>
            </a:xfrm>
            <a:prstGeom prst="rect">
              <a:avLst/>
            </a:prstGeom>
            <a:solidFill>
              <a:srgbClr val="feb1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1193760" y="5429160"/>
              <a:ext cx="639000" cy="171360"/>
            </a:xfrm>
            <a:prstGeom prst="rect">
              <a:avLst/>
            </a:prstGeom>
            <a:solidFill>
              <a:srgbClr val="ff9b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1193760" y="5829120"/>
              <a:ext cx="639000" cy="171720"/>
            </a:xfrm>
            <a:prstGeom prst="rect">
              <a:avLst/>
            </a:prstGeom>
            <a:solidFill>
              <a:srgbClr val="bebe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2106720" y="4114800"/>
              <a:ext cx="246528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479 - 0.6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601 - 0.7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701 - 0.80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0.801 - 0.908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Times New Roman"/>
                </a:rPr>
                <a:t>Missing data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sp>
        <p:nvSpPr>
          <p:cNvPr id="152" name="Text Box 12"/>
          <p:cNvSpPr/>
          <p:nvPr/>
        </p:nvSpPr>
        <p:spPr>
          <a:xfrm>
            <a:off x="762120" y="380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8b071d"/>
                </a:solidFill>
                <a:uFillTx/>
                <a:latin typeface="Arial Unicode MS"/>
                <a:ea typeface="Arial Unicode MS"/>
              </a:rPr>
              <a:t>National Level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1808" t="1162" r="1808" b="1162"/>
          <a:stretch/>
        </p:blipFill>
        <p:spPr>
          <a:xfrm>
            <a:off x="4541760" y="0"/>
            <a:ext cx="4602240" cy="67896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939960" y="4324320"/>
            <a:ext cx="711000" cy="171360"/>
          </a:xfrm>
          <a:prstGeom prst="rect">
            <a:avLst/>
          </a:prstGeom>
          <a:solidFill>
            <a:srgbClr val="fdf5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939960" y="4667400"/>
            <a:ext cx="711000" cy="171360"/>
          </a:xfrm>
          <a:prstGeom prst="rect">
            <a:avLst/>
          </a:prstGeom>
          <a:solidFill>
            <a:srgbClr val="fec8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39960" y="5124600"/>
            <a:ext cx="711000" cy="171360"/>
          </a:xfrm>
          <a:prstGeom prst="rect">
            <a:avLst/>
          </a:prstGeom>
          <a:solidFill>
            <a:srgbClr val="feb1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939960" y="5524560"/>
            <a:ext cx="711000" cy="171360"/>
          </a:xfrm>
          <a:prstGeom prst="rect">
            <a:avLst/>
          </a:prstGeom>
          <a:solidFill>
            <a:srgbClr val="ff9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939960" y="5924520"/>
            <a:ext cx="711000" cy="171360"/>
          </a:xfrm>
          <a:prstGeom prst="rect">
            <a:avLst/>
          </a:prstGeom>
          <a:solidFill>
            <a:srgbClr val="beb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946240" y="3828960"/>
            <a:ext cx="2133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854360" y="4267080"/>
            <a:ext cx="294624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532 - 0.6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601 - 0.7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701 - 0.800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0.801 - 0.642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 Unicode MS"/>
                <a:ea typeface="Arial Unicode MS"/>
              </a:rPr>
              <a:t>Missing data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762120" y="25905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icol Region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0" y="1219320"/>
            <a:ext cx="4495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-270720" y="304920"/>
            <a:ext cx="5763240" cy="52056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Regional Level Monitoring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066680" y="533520"/>
            <a:ext cx="77724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 Unicode MS"/>
              </a:rPr>
              <a:t>Social Watch Philippines 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 Unicode MS"/>
              </a:rPr>
              <a:t>Initiatives in Social Development Monitoring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3" name="Line 3"/>
          <p:cNvSpPr/>
          <p:nvPr/>
        </p:nvSpPr>
        <p:spPr>
          <a:xfrm>
            <a:off x="1143000" y="1676520"/>
            <a:ext cx="73915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143000" y="1981080"/>
            <a:ext cx="7391520" cy="82548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fd7ff"/>
                </a:solidFill>
                <a:uFillTx/>
                <a:latin typeface="Comic Sans MS"/>
              </a:rPr>
              <a:t>Locating the Role of MONITORING in the Advocacy Work of Social Watch Philippines…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1143000" y="3124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e04de"/>
                </a:solidFill>
                <a:uFillTx/>
                <a:latin typeface="Arial Unicode MS"/>
              </a:rPr>
              <a:t>Monitoring…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pSp>
        <p:nvGrpSpPr>
          <p:cNvPr id="96" name="Group 6"/>
          <p:cNvGrpSpPr/>
          <p:nvPr/>
        </p:nvGrpSpPr>
        <p:grpSpPr>
          <a:xfrm>
            <a:off x="1676520" y="3581280"/>
            <a:ext cx="4038480" cy="749160"/>
            <a:chOff x="1676520" y="3581280"/>
            <a:chExt cx="4038480" cy="749160"/>
          </a:xfrm>
        </p:grpSpPr>
        <p:sp>
          <p:nvSpPr>
            <p:cNvPr id="97" name="Rectangle 7"/>
            <p:cNvSpPr/>
            <p:nvPr/>
          </p:nvSpPr>
          <p:spPr>
            <a:xfrm>
              <a:off x="2362320" y="380988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40ca8"/>
                  </a:solidFill>
                  <a:uFillTx/>
                  <a:latin typeface="Arial Unicode MS"/>
                </a:rPr>
                <a:t>Engagement…</a:t>
              </a:r>
              <a:endParaRPr b="0" lang="en-US" sz="28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98" name="AutoShape 8"/>
            <p:cNvSpPr/>
            <p:nvPr/>
          </p:nvSpPr>
          <p:spPr>
            <a:xfrm>
              <a:off x="1676520" y="3581280"/>
              <a:ext cx="533160" cy="60984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06560 h 609840"/>
                <a:gd name="textAreaBottom" fmla="*/ 4420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99" name="Group 9"/>
          <p:cNvGrpSpPr/>
          <p:nvPr/>
        </p:nvGrpSpPr>
        <p:grpSpPr>
          <a:xfrm>
            <a:off x="3276720" y="4267080"/>
            <a:ext cx="5105160" cy="673200"/>
            <a:chOff x="3276720" y="4267080"/>
            <a:chExt cx="5105160" cy="673200"/>
          </a:xfrm>
        </p:grpSpPr>
        <p:sp>
          <p:nvSpPr>
            <p:cNvPr id="100" name="Rectangle 10"/>
            <p:cNvSpPr/>
            <p:nvPr/>
          </p:nvSpPr>
          <p:spPr>
            <a:xfrm>
              <a:off x="3962520" y="4419720"/>
              <a:ext cx="44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030a8f"/>
                  </a:solidFill>
                  <a:uFillTx/>
                  <a:latin typeface="Arial Unicode MS"/>
                </a:rPr>
                <a:t>Influencing Policy …</a:t>
              </a:r>
              <a:endParaRPr b="0" lang="en-US" sz="28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01" name="AutoShape 11"/>
            <p:cNvSpPr/>
            <p:nvPr/>
          </p:nvSpPr>
          <p:spPr>
            <a:xfrm>
              <a:off x="3276720" y="4267080"/>
              <a:ext cx="533160" cy="60984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06560 h 609840"/>
                <a:gd name="textAreaBottom" fmla="*/ 44208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02" name="Group 12"/>
          <p:cNvGrpSpPr/>
          <p:nvPr/>
        </p:nvGrpSpPr>
        <p:grpSpPr>
          <a:xfrm>
            <a:off x="1066680" y="4648320"/>
            <a:ext cx="7467840" cy="1617120"/>
            <a:chOff x="1066680" y="4648320"/>
            <a:chExt cx="7467840" cy="1617120"/>
          </a:xfrm>
        </p:grpSpPr>
        <p:sp>
          <p:nvSpPr>
            <p:cNvPr id="103" name="Rectangle 13"/>
            <p:cNvSpPr/>
            <p:nvPr/>
          </p:nvSpPr>
          <p:spPr>
            <a:xfrm>
              <a:off x="1066680" y="5257800"/>
              <a:ext cx="6858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 u="sng">
                  <a:solidFill>
                    <a:srgbClr val="002346"/>
                  </a:solidFill>
                  <a:uFillTx/>
                  <a:latin typeface="Arial Unicode MS"/>
                </a:rPr>
                <a:t>Facilitate Participation in Development</a:t>
              </a:r>
              <a:endParaRPr b="0" lang="en-US" sz="3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04" name="AutoShape 14"/>
            <p:cNvSpPr/>
            <p:nvPr/>
          </p:nvSpPr>
          <p:spPr>
            <a:xfrm>
              <a:off x="7772400" y="4648320"/>
              <a:ext cx="762120" cy="114300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199800 h 1143000"/>
                <a:gd name="textAreaBottom" fmla="*/ 828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523520" y="1028880"/>
            <a:ext cx="175284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286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1371600" y="4038480"/>
            <a:ext cx="2438280" cy="1935360"/>
            <a:chOff x="1371600" y="4038480"/>
            <a:chExt cx="2438280" cy="1935360"/>
          </a:xfrm>
        </p:grpSpPr>
        <p:sp>
          <p:nvSpPr>
            <p:cNvPr id="167" name="Text Box 5"/>
            <p:cNvSpPr/>
            <p:nvPr/>
          </p:nvSpPr>
          <p:spPr>
            <a:xfrm>
              <a:off x="2387520" y="4038480"/>
              <a:ext cx="1422360" cy="19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36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60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581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687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9999"/>
                  </a:solidFill>
                  <a:uFillTx/>
                  <a:latin typeface="Arial Unicode MS"/>
                  <a:ea typeface="Arial Unicode MS"/>
                </a:rPr>
                <a:t>0.731</a:t>
              </a: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1371600" y="4095720"/>
              <a:ext cx="749520" cy="122040"/>
            </a:xfrm>
            <a:prstGeom prst="rect">
              <a:avLst/>
            </a:prstGeom>
            <a:solidFill>
              <a:srgbClr val="fd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1371600" y="4552920"/>
              <a:ext cx="749520" cy="122040"/>
            </a:xfrm>
            <a:prstGeom prst="rect">
              <a:avLst/>
            </a:prstGeom>
            <a:solidFill>
              <a:srgbClr val="fec8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1371600" y="4952880"/>
              <a:ext cx="749520" cy="122040"/>
            </a:xfrm>
            <a:prstGeom prst="rect">
              <a:avLst/>
            </a:prstGeom>
            <a:solidFill>
              <a:srgbClr val="feb1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1371600" y="5352840"/>
              <a:ext cx="749520" cy="122400"/>
            </a:xfrm>
            <a:prstGeom prst="rect">
              <a:avLst/>
            </a:prstGeom>
            <a:solidFill>
              <a:srgbClr val="ff9b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1371600" y="5752800"/>
              <a:ext cx="749520" cy="122400"/>
            </a:xfrm>
            <a:prstGeom prst="rect">
              <a:avLst/>
            </a:prstGeom>
            <a:solidFill>
              <a:srgbClr val="d46a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9999"/>
                </a:solidFill>
                <a:uFillTx/>
                <a:latin typeface="Times New Roman"/>
              </a:endParaRPr>
            </a:p>
          </p:txBody>
        </p:sp>
      </p:grpSp>
      <p:sp>
        <p:nvSpPr>
          <p:cNvPr id="173" name="Rectangle 11"/>
          <p:cNvSpPr/>
          <p:nvPr/>
        </p:nvSpPr>
        <p:spPr>
          <a:xfrm>
            <a:off x="2286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graphicFrame>
        <p:nvGraphicFramePr>
          <p:cNvPr id="174" name="Object 12"/>
          <p:cNvGraphicFramePr/>
          <p:nvPr/>
        </p:nvGraphicFramePr>
        <p:xfrm>
          <a:off x="4740120" y="1600200"/>
          <a:ext cx="440388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1600200"/>
                    <a:ext cx="440388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13"/>
          <p:cNvSpPr/>
          <p:nvPr/>
        </p:nvSpPr>
        <p:spPr>
          <a:xfrm>
            <a:off x="914400" y="2590920"/>
            <a:ext cx="3429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Guimaras, 2001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1219320"/>
            <a:ext cx="44956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Quality of Life </a:t>
            </a:r>
            <a:br>
              <a:rPr sz="4000"/>
            </a:b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ndex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-383760" y="304920"/>
            <a:ext cx="8578080" cy="520560"/>
          </a:xfrm>
          <a:prstGeom prst="rect">
            <a:avLst/>
          </a:prstGeom>
          <a:solidFill>
            <a:srgbClr val="0f12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Unicode MS"/>
              </a:rPr>
              <a:t>Provincial and Municipal Level Monitoring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762120" y="990720"/>
            <a:ext cx="7238880" cy="4685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Advantages of QLI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e Index can be generated easily using indicators regularly generated by government agencies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can be computed annually without need for expensive surveys and monitoring system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pplicable and effective for both national and local level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nswers the need for data disaggregation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nsitive and highly correlated with other poverty/welfare measures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rves as an advocacy tool as it underscores the importance of human development in development planning and public investment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reas for QLI Improvemen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ndicators can be modified to improve measurement sensitivity in well-being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rivatives like gender-based approach to generate QLI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Life cycle approac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828800" y="152388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209680" y="2743200"/>
            <a:ext cx="525780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99"/>
                </a:solidFill>
                <a:latin typeface="Verdana"/>
              </a:rPr>
              <a:t>THE END</a:t>
            </a:r>
            <a:endParaRPr b="0" lang="en-US" sz="7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066680" y="533520"/>
            <a:ext cx="777240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b0e77"/>
                </a:solidFill>
                <a:uFillTx/>
                <a:latin typeface="Arial Unicode MS"/>
              </a:rPr>
              <a:t>Social Watch Philippines 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b0e77"/>
                </a:solidFill>
                <a:uFillTx/>
                <a:latin typeface="Arial Unicode MS"/>
              </a:rPr>
              <a:t>Initiatives in Social Development Monitoring</a:t>
            </a:r>
            <a:endParaRPr b="0" lang="en-US" sz="3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1143000" y="1676520"/>
            <a:ext cx="739152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1.   Pro-Poor Monitoring System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Measuring Progress from the Lens of the Poor and the Vulnerable) 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2.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Quality of Life Index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(Developing alternative Indicators that capture key aspects of Human Development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lternative Budget Initiative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Using MDG as Framework)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4.   Local Monitoring System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Tracking Progress and Engagement at Provincial and Municipal Levels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5.   MDG Localization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Translating the the Global Goals into Local MDG Indicators, Targets, Plans and Strategies)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95280" y="2971800"/>
            <a:ext cx="6934320" cy="182880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1)  Income/expenditure-based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2)  Outcome-based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3)  Perception-based </a:t>
            </a: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438280" y="1143000"/>
            <a:ext cx="4572000" cy="1068840"/>
          </a:xfrm>
          <a:prstGeom prst="rect">
            <a:avLst/>
          </a:prstGeom>
          <a:solidFill>
            <a:srgbClr val="07ff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Three Broad Categories  of Poverty Measures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7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38080" y="457200"/>
            <a:ext cx="693432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Categories of Poverty Measures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838080" y="1143000"/>
            <a:ext cx="7620120" cy="5181480"/>
          </a:xfrm>
          <a:prstGeom prst="rect">
            <a:avLst/>
          </a:prstGeom>
          <a:noFill/>
          <a:ln w="414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1) Income/Expenditure-Based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Official Poverty Statistics (based on income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Fixed Level Of Living”  or FLOL (based on expenditures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World Bank’s 1$-a-day approach (PP$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)  Outcome-Based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Human Development Index (HDI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Human Poverty Index (HPI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Capability Poverty Measure (CPM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Gender Development Index (GDI)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Gender Empowerment Measure (GEM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 algn="just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 </a:t>
            </a:r>
            <a:endParaRPr b="0" lang="en-US" sz="5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3)  Perception-Based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Ex: Social Weather Stations (SWS)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Official Poverty Statistic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come-based approach computed from FIES data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verty incidence computed based on the poverty threshold level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hreshold level combines food and basic non-food requirements</a:t>
            </a:r>
            <a:r>
              <a:rPr b="0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Fixed Level of Living Approach (FLOL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veloped by A. Balisacan that is expenditure-based and sets a fixed standard of living used for provincial comparison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sing </a:t>
            </a:r>
            <a:r>
              <a:rPr b="1" i="1" lang="en-US" sz="22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FLOL results to </a:t>
            </a: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ower poverty incidence compared to the official approach and different regional/provincial rankings 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99"/>
                </a:solidFill>
                <a:uFillTx/>
                <a:latin typeface="Times New Roman"/>
                <a:ea typeface="Times New Roman"/>
              </a:rPr>
              <a:t>One Dollar a day (PP$) Poverty Lin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World Bank approach using the poverty line of $1 a day for international comparisons; Based on this, Philippine poverty incidence remain higher than China, Indonesia, Malaysia and Thailand but better than India’s poverty level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4" name="Text Box 2051"/>
          <p:cNvSpPr/>
          <p:nvPr/>
        </p:nvSpPr>
        <p:spPr>
          <a:xfrm>
            <a:off x="609480" y="304920"/>
            <a:ext cx="5639040" cy="587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ome/Expenditure-Based</a:t>
            </a:r>
            <a:endParaRPr b="0" lang="en-US" sz="36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828800" y="152388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133720" y="1219320"/>
            <a:ext cx="5257800" cy="2287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Narrow"/>
              </a:rPr>
              <a:t>Operationalizing the Quality of Life Index (QLI)</a:t>
            </a:r>
            <a:endParaRPr b="0" lang="en-US" sz="4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62120" y="44197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Times New Roman"/>
              </a:rPr>
              <a:t>Local Application of QLI in monitoring poverty and well-being</a:t>
            </a:r>
            <a:endParaRPr b="0" lang="en-US" sz="3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719520" y="6518160"/>
            <a:ext cx="15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38080" y="457200"/>
            <a:ext cx="3657600" cy="477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of Life Index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609480" y="1143000"/>
            <a:ext cx="7848720" cy="4343400"/>
          </a:xfrm>
          <a:prstGeom prst="rect">
            <a:avLst/>
          </a:prstGeom>
          <a:noFill/>
          <a:ln w="414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QLI is an alternative measure of people’s well-being 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33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It is a derivative of the pure capability-based measure as proposed and popularized by Amartya Sen</a:t>
            </a:r>
            <a:endParaRPr b="0" lang="en-US" sz="24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550"/>
              </a:spcBef>
              <a:buClr>
                <a:srgbClr val="0033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The measure assigns equal weights to three basic capabilities: 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5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1)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</a:rPr>
              <a:t>Capability to be well-nourished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ff9966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1800" spc="-1" strike="noStrike">
                <a:solidFill>
                  <a:srgbClr val="86001a"/>
                </a:solidFill>
                <a:latin typeface="Verdana"/>
                <a:ea typeface="Times New Roman"/>
              </a:rPr>
              <a:t>Under-five nutrition status</a:t>
            </a:r>
            <a:endParaRPr b="0" lang="en-US" sz="1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ff9966"/>
              </a:buClr>
              <a:buSzPct val="5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2) </a:t>
            </a:r>
            <a:r>
              <a:rPr b="1" lang="en-US" sz="20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</a:rPr>
              <a:t>Capability for healthy and safe reproduction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    </a:t>
            </a: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Births attended by trained health personne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3) Capability to be educated &amp; be knowledgeable 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  <a:ea typeface="Times New Roman"/>
              </a:rPr>
              <a:t>  </a:t>
            </a:r>
            <a:r>
              <a:rPr b="1" i="1" lang="en-US" sz="2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200" spc="-1" strike="noStrike">
                <a:solidFill>
                  <a:srgbClr val="86001a"/>
                </a:solidFill>
                <a:latin typeface="Times New Roman"/>
                <a:ea typeface="Times New Roman"/>
              </a:rPr>
              <a:t>Elementary Cohort Survival Rate</a:t>
            </a:r>
            <a:r>
              <a:rPr b="1" lang="en-US" sz="2000" spc="-1" strike="noStrike">
                <a:solidFill>
                  <a:srgbClr val="86001a"/>
                </a:solidFill>
                <a:latin typeface="Verdana"/>
                <a:ea typeface="Times New Roman"/>
              </a:rPr>
              <a:t>  </a:t>
            </a: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61760" y="624852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85800" y="1295280"/>
            <a:ext cx="8001000" cy="3478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Times New Roman"/>
              </a:rPr>
              <a:t>Main Features</a:t>
            </a: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QLI applies a pure capability-based approach 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is consistent with existing national and international statistical system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is applicable for both national and local levels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(provinces, municipalities and barangays)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t complements HDI and Income-based poverty measures</a:t>
            </a: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009999"/>
              </a:solidFill>
              <a:uFillTx/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6:41:46Z</dcterms:created>
  <dc:creator>Direk</dc:creator>
  <dc:description/>
  <dc:language>en-US</dc:language>
  <cp:lastModifiedBy>anaclau</cp:lastModifiedBy>
  <dcterms:modified xsi:type="dcterms:W3CDTF">2009-10-25T07:33:26Z</dcterms:modified>
  <cp:revision>81</cp:revision>
  <dc:subject/>
  <dc:title>General</dc:title>
</cp:coreProperties>
</file>